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81C-EA3D-43EE-8B8F-42E29E63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3FE-3564-4FFD-A925-5A7E5DFF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81E-9591-4EAE-B9A9-906F9F13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BB7-2917-4AC1-98BB-8208DA8B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A99-780E-4744-B69C-4BC4C7F8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C7C-37D3-41D2-9D13-FC1F447D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B92-7BDF-44F9-B853-6D2D3856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FF2-2881-4103-9DD8-93C4057D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795-5836-43C8-BFDF-7F280D2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078B-59C3-4DC1-96D5-E0B1EBD7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BA4-4820-4B15-B30E-DA6BA924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9AE-A0B9-406C-BE3C-D54E03F6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1BFE-13A4-4C9B-AEF7-4D5B8BACE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5 Ži vo mne, drahý Kris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 vo mne, drahý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mojom srdci 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Duchom svojím stál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cestou spásy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rady tvojho Sl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denne prijím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ítim, že si pri 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emusím byť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ť v srdci pravú lás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žiadnu zlobu v ň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nedokáž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na to slabý s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preto spolieham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voju pomoc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rád ma vypočuj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 pevne veriť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rám vybuduj si vo 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celý som vždy t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iba ty si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pravý blaha zdr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om, prosím, moju pýc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ozdob poko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skúškach, v každom krí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mojou opor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v tvojej cirkvi úd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pre mňa veľká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j konať tvoje di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tebe šíriť zv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blížnym o tom hlás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pása v tebe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áš rád všetkých ľu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každý o tom v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0T09:55:03Z</dcterms:modified>
  <cp:revision>20</cp:revision>
  <dc:subject/>
  <dc:title>Je veľký náš Pán, on slávy je Kráľ Nech do všetkých strán  spev vrúcnych znie chvál.</dc:title>
</cp:coreProperties>
</file>